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comments/comment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iris" initials="i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<Relationship Id="rId20" Type="http://schemas.openxmlformats.org/officeDocument/2006/relationships/commentAuthors" Target="commentAuthors.xml"/>
</Relationships>
</file>

<file path=ppt/comments/comment9.xml><?xml version="1.0" encoding="utf-8"?>
<p:cmLst xmlns:p="http://schemas.openxmlformats.org/presentationml/2006/main">
  <p:cm authorId="0" dt="2011-03-03T19:33:09.497000000" idx="1">
    <p:pos x="10" y="1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AF40-88E1-4DC2-8EF1-62D0E2819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D8D9-2C10-497F-8404-CCFAB7FB6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3103-197B-48A7-A8DA-F07C98815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C1CD-6AAE-4D1A-9F33-B01877C4A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9288A-7435-4CF7-91F2-131C2D0A1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25259-FBBB-412B-8531-D61DBFA30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75A95-96B9-453E-8BF6-1C8C717DE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082F6-6464-4DBA-B38B-20841ADDE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EA4AA-C83D-4A3E-B920-24E58AC3D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03377-CFEE-45C7-BB89-CE5BE0D7C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52B74-071F-45CF-8A2D-AC397591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DAD4-C79D-4742-A6E1-CBBE43CE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08B6C-5562-4EB1-944C-EC5926C9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C0787-2215-4331-A725-A0B2A3B5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9D2B1-1CC0-457E-A605-59352B92D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2BCBC-7141-41D1-BF5B-D1F4B73F3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632C8-F5EF-4DF7-B7EA-966DF04A6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E6A45-A303-4C5A-AF80-573AFDC5C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917D9-0DAE-4C89-91BE-41F091FD3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4D7F8-FCF1-4BA0-89C4-FE756A5FF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C821A-D530-4651-B658-248150778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70936-0E43-4CD9-BA1E-17289497B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5460-A5F1-4A85-B7D6-FB0D77790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C0E21-C388-48E1-A6EE-1E8B3A4B2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2D6B0-BA87-47B3-A278-EB3F6EE3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14CA4-1414-4921-8D39-DD0C8F5D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FD785-5974-4FC4-BA7C-6D07DCAB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78263-893A-4DDA-9CB7-19034DAE1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986E5-189C-4524-BB03-29C304064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1D03A-327A-4727-B128-CB0437A4E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93E62-2196-422E-98D6-7572E187E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4A983-D6C6-43BB-BE58-6E8562624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0CFE0-26D5-4EC6-9140-0A39F4064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D976-B576-4D40-B57D-B5DC88B4C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227C2-BE35-402B-BF87-EC78FB58C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F2711-4074-46B0-A50D-77DB13D45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132A4-85A9-43A6-9385-C68B5791C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BB941-F190-4BC8-A752-724335DD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84A41-4F03-4DB7-B6F9-811DC929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BFA81-0B76-4C45-B2DA-848EA46A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DF6AA-11B9-40C0-826B-0CD1212A1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45E1D-0C75-4D32-85FB-B7F241D81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832F7-335D-4515-A389-503315854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06656-AE4B-43F0-91D3-1E86754CC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09C5-AAA3-4067-BFF6-8DF5EC09F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25DB1-864E-45E7-A026-D0BE892A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DC669-63E0-4820-90EF-879C7CC23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959C2-1C1B-4CB3-BBFC-177A3A02A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8361B-BC39-48DC-B90F-001B8DBEE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F59B0-61A6-42F4-9DB8-C986E6253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A1919-B3B4-4C8A-A50A-59D696F3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A4ABD-97D4-4D8E-999C-8AB8F64C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D19FB-2777-4BF8-8541-05A7F745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BED33-E46C-4971-9CB5-4FD50D7FE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2FE18-1A36-404F-A312-2AF520ADD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A4E2-20A8-4354-A4CF-348603474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AB5FC-067D-409F-9977-B83B8977C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57F16-2E17-418F-8236-8407D29DD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C2E87-F657-4997-983B-291C7FCAD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38A76-269F-4706-BFC0-E3DB385A7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07790-1664-49B0-89EC-6F67DAA26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965E4-58A8-440A-9189-5F2D24717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37ED5-65F3-49D0-8460-C24829D01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781743-8541-4DE6-9DC3-2FC0E930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AEA5E-1F63-4F6D-8567-A1675C48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16F02-D69C-4183-8B3A-424578C0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1F53-18A2-438D-992C-EAD94096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466C6-CB12-4BE2-9727-F17CCCDC3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EC9C92-E3EE-491E-A442-9073FBF8E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E0F2E-FCAE-43AD-BD49-E091A7E45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2F6D3F-139F-4BF4-BC3B-366B64F55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9C2141-C825-4802-8F2D-C94660F60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AE9D8-9F09-4484-8660-AE433323A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96B1C9-D26B-428A-A04E-E6C560FDF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1C1BF-395A-45B4-B819-3B83A5509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DC81A8-4A29-43B7-A170-2D20BADCD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3A62A8-7C63-42E9-B475-995BDA3E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50EE-54B7-4E71-9441-BF7D475A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6BBE6-2CA7-4153-85CB-D4C18452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617AB-B990-4700-AEF4-8827C1FE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6A5B4-F1E8-487D-884F-C2148B4C7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6DC355-1CB3-4781-8784-0C1DFD7A1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5B116-6A3A-44FD-B6BD-FB5892FCF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E82F-EC16-4D63-9D9D-F88A3EB1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E4A6C-E5BA-45D7-9A6E-3A2101181D4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82E0D-3B97-4571-BAB5-1D9C9B04C0F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385A0-1992-4DB3-AF82-520C8BE7555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5613F-C9D5-4DC6-ACCC-C6AF4CDA23A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F0950-CF1B-4849-B762-D1E7EB63810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41239-9800-4D77-803F-51A792CBC428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166A1-87CA-475C-AC8A-70396A65855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comments" Target="../comments/commen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12"/>
          <p:cNvSpPr/>
          <p:nvPr/>
        </p:nvSpPr>
        <p:spPr>
          <a:xfrm>
            <a:off x="5481720" y="29286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9" name="Picture 13" descr="AltaVista"/>
          <p:cNvPicPr/>
          <p:nvPr/>
        </p:nvPicPr>
        <p:blipFill>
          <a:blip r:embed="rId1"/>
          <a:stretch/>
        </p:blipFill>
        <p:spPr>
          <a:xfrm>
            <a:off x="1371600" y="1143000"/>
            <a:ext cx="6477120" cy="1752480"/>
          </a:xfrm>
          <a:prstGeom prst="rect">
            <a:avLst/>
          </a:prstGeom>
          <a:ln w="0">
            <a:noFill/>
          </a:ln>
        </p:spPr>
      </p:pic>
      <p:sp>
        <p:nvSpPr>
          <p:cNvPr id="320" name="Control 23"/>
          <p:cNvSpPr/>
          <p:nvPr/>
        </p:nvSpPr>
        <p:spPr>
          <a:xfrm>
            <a:off x="3429000" y="990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Rectangle 24"/>
          <p:cNvSpPr/>
          <p:nvPr/>
        </p:nvSpPr>
        <p:spPr>
          <a:xfrm>
            <a:off x="5481720" y="29286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TextBox 10"/>
          <p:cNvSpPr/>
          <p:nvPr/>
        </p:nvSpPr>
        <p:spPr>
          <a:xfrm>
            <a:off x="5410080" y="4648320"/>
            <a:ext cx="106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By Iris Filomen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0e04"/>
              </a:solidFill>
              <a:latin typeface="Gill Sans MT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-914400" y="0"/>
            <a:ext cx="11201400" cy="77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503280" y="1600200"/>
            <a:ext cx="8183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ltaVista, a business of Overture Services, Inc., is a leading provider of search services and technology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ltaVista continues to advance Internet search with new technologies and features designed to improve the search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5" name="Picture 2" descr=""/>
          <p:cNvPicPr/>
          <p:nvPr/>
        </p:nvPicPr>
        <p:blipFill>
          <a:blip r:embed="rId1"/>
          <a:stretch/>
        </p:blipFill>
        <p:spPr>
          <a:xfrm>
            <a:off x="2590920" y="457200"/>
            <a:ext cx="44956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1984320" y="144792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4"/>
          <p:cNvSpPr/>
          <p:nvPr/>
        </p:nvSpPr>
        <p:spPr>
          <a:xfrm>
            <a:off x="1066680" y="685800"/>
            <a:ext cx="7391520" cy="36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ltaVista, which means "a view from above," was inspired by the creation of big ideas from a team of experts with a fascination for keeping track of Informatio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ltaVista inventions include the first-ever multi-lingual search capability on the Internet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ltaVista is proud of Babel Fish, the Web's first Internet machine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600200" y="2362320"/>
            <a:ext cx="59436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572314"/>
                </a:solidFill>
                <a:latin typeface="Gill Sans MT"/>
              </a:rPr>
              <a:t>•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Delivers Internet's first Web index (1995)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• First multilingual search capabilities on the Internet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• First Internet search engine to launch Image, Audio, and Video search.</a:t>
            </a:r>
            <a:br>
              <a:rPr sz="2000"/>
            </a:br>
            <a:br>
              <a:rPr sz="3900"/>
            </a:b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1" name="Picture 2" descr=""/>
          <p:cNvPicPr/>
          <p:nvPr/>
        </p:nvPicPr>
        <p:blipFill>
          <a:blip r:embed="rId1"/>
          <a:stretch/>
        </p:blipFill>
        <p:spPr>
          <a:xfrm>
            <a:off x="2209680" y="838080"/>
            <a:ext cx="44197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"/>
          <p:cNvPicPr/>
          <p:nvPr/>
        </p:nvPicPr>
        <p:blipFill>
          <a:blip r:embed="rId1"/>
          <a:stretch/>
        </p:blipFill>
        <p:spPr>
          <a:xfrm>
            <a:off x="-1219320" y="0"/>
            <a:ext cx="115826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91080" y="2438640"/>
            <a:ext cx="660708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ost advanced Internet search features and capabilities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ultimedia search, translation &amp; language recognition, and specialty search. </a:t>
            </a:r>
            <a:br>
              <a:rPr sz="2000"/>
            </a:br>
            <a:br>
              <a:rPr sz="3900"/>
            </a:b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4" name="Picture 2" descr=""/>
          <p:cNvPicPr/>
          <p:nvPr/>
        </p:nvPicPr>
        <p:blipFill>
          <a:blip r:embed="rId1"/>
          <a:stretch/>
        </p:blipFill>
        <p:spPr>
          <a:xfrm>
            <a:off x="2286000" y="1143000"/>
            <a:ext cx="4343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3T23:09:59Z</dcterms:created>
  <dc:creator>iris</dc:creator>
  <dc:description/>
  <dc:language>en-US</dc:language>
  <cp:lastModifiedBy>ccstudent</cp:lastModifiedBy>
  <dcterms:modified xsi:type="dcterms:W3CDTF">2011-03-05T17:22:23Z</dcterms:modified>
  <cp:revision>18</cp:revision>
  <dc:subject/>
  <dc:title>PowerPoint Presentation</dc:title>
</cp:coreProperties>
</file>